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1BF6-0E5C-4AAD-9BC5-2B540F34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A9B4-CF84-46D3-98DB-E1823571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DF04-C087-42DC-99D9-E7AB7AF5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2B4F-942A-41B4-A882-5D422F7C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211E-85C7-472C-87D5-5239715D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7B50-15CC-4840-B40F-CB6A8037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313A-C510-4789-A1A0-DE70C169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EF08-933C-4209-81C5-F758729A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2DD0-0A80-4043-B7D8-F131C098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AE30-B590-4887-B8FE-DAC00FCA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5236-8717-4FAC-AE29-6AA6CDC0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0943-1E11-44B0-BBC7-1611DE18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4A97-2DAE-44D4-BF17-E0099291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A7A8-6847-4938-8231-40009549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E7E6-DA35-4C3B-B80B-D6D91AB5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BF53-BF56-4DB0-AE65-B8DA0EFB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8D42-3A42-4104-89BB-80E19D76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B746-E938-44E8-8CAE-0C82A192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64AC-2FFB-4110-B28F-74817B1B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E8512-4267-42C2-823D-B57DDAF2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5DBEE-C14D-4EC7-9525-FC1A0375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AFD2-241B-4E32-A05E-B59A5ED0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EB38-7713-4BBA-9D03-34CE06C7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8DD9-626B-48D6-98A6-51FEC48A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91e10"/>
                </a:gs>
                <a:gs pos="100000">
                  <a:srgbClr val="424f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E315-F0A4-4C9A-B9B7-F552BD75394D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4e5d31"/>
                </a:gs>
                <a:gs pos="100000">
                  <a:srgbClr val="4654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32a1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71b0e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20201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13a1f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252d17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272f1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2f381d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f4b28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4512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414e29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262d17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282f18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94323"/>
                </a:gs>
                <a:gs pos="100000">
                  <a:srgbClr val="46532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c351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a321a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64022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a4624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46542c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1e2413"/>
                </a:gs>
                <a:gs pos="100000">
                  <a:srgbClr val="4e5d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9226-D533-410C-AE61-477F479E9306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33cc33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d17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>
                <a:solidFill>
                  <a:srgbClr val="ffffcc"/>
                </a:solidFill>
                <a:latin typeface="Arial"/>
              </a:rPr>
              <a:t>هل تفضل أن تكون قائداً مميزاً؟؟؟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إذاً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أحرص على الاستفادة معنا .....اليوم</a:t>
            </a: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52200" y="171360"/>
            <a:ext cx="8965800" cy="6510240"/>
            <a:chOff x="52200" y="171360"/>
            <a:chExt cx="8965800" cy="6510240"/>
          </a:xfrm>
        </p:grpSpPr>
        <p:sp>
          <p:nvSpPr>
            <p:cNvPr id="599" name="_s12345"/>
            <p:cNvSpPr/>
            <p:nvPr/>
          </p:nvSpPr>
          <p:spPr>
            <a:xfrm flipH="1" flipV="1">
              <a:off x="2888640" y="1850040"/>
              <a:ext cx="1101960" cy="104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_s12344"/>
            <p:cNvSpPr/>
            <p:nvPr/>
          </p:nvSpPr>
          <p:spPr>
            <a:xfrm>
              <a:off x="1407600" y="66888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ono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_s12343"/>
            <p:cNvSpPr/>
            <p:nvPr/>
          </p:nvSpPr>
          <p:spPr>
            <a:xfrm flipH="1" flipV="1">
              <a:off x="1874520" y="28263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_s12342"/>
            <p:cNvSpPr/>
            <p:nvPr/>
          </p:nvSpPr>
          <p:spPr>
            <a:xfrm>
              <a:off x="52200" y="19692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Communicate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With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_s12341"/>
            <p:cNvSpPr/>
            <p:nvPr/>
          </p:nvSpPr>
          <p:spPr>
            <a:xfrm flipH="1">
              <a:off x="1877760" y="3626280"/>
              <a:ext cx="1771560" cy="40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_s12340"/>
            <p:cNvSpPr/>
            <p:nvPr/>
          </p:nvSpPr>
          <p:spPr>
            <a:xfrm>
              <a:off x="52200" y="357876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iquenes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_s12339"/>
            <p:cNvSpPr/>
            <p:nvPr/>
          </p:nvSpPr>
          <p:spPr>
            <a:xfrm flipH="1">
              <a:off x="2894760" y="395244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_s12338"/>
            <p:cNvSpPr/>
            <p:nvPr/>
          </p:nvSpPr>
          <p:spPr>
            <a:xfrm>
              <a:off x="1407600" y="488124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Open his ey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_s12337"/>
            <p:cNvSpPr/>
            <p:nvPr/>
          </p:nvSpPr>
          <p:spPr>
            <a:xfrm>
              <a:off x="4533480" y="4076640"/>
              <a:ext cx="6840" cy="1299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_s12336"/>
            <p:cNvSpPr/>
            <p:nvPr/>
          </p:nvSpPr>
          <p:spPr>
            <a:xfrm>
              <a:off x="3601800" y="5376600"/>
              <a:ext cx="187056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Trust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bilitie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_s12335"/>
            <p:cNvSpPr/>
            <p:nvPr/>
          </p:nvSpPr>
          <p:spPr>
            <a:xfrm>
              <a:off x="5079960" y="3952440"/>
              <a:ext cx="1101960" cy="105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_s12334"/>
            <p:cNvSpPr/>
            <p:nvPr/>
          </p:nvSpPr>
          <p:spPr>
            <a:xfrm>
              <a:off x="5792760" y="487908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Never undermin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_s12333"/>
            <p:cNvSpPr/>
            <p:nvPr/>
          </p:nvSpPr>
          <p:spPr>
            <a:xfrm>
              <a:off x="5421240" y="3629160"/>
              <a:ext cx="1774440" cy="39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_s12332"/>
            <p:cNvSpPr/>
            <p:nvPr/>
          </p:nvSpPr>
          <p:spPr>
            <a:xfrm>
              <a:off x="7148160" y="357876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Appreci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effort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_s12331"/>
            <p:cNvSpPr/>
            <p:nvPr/>
          </p:nvSpPr>
          <p:spPr>
            <a:xfrm flipV="1">
              <a:off x="5421240" y="2821320"/>
              <a:ext cx="1770480" cy="404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_s12330"/>
            <p:cNvSpPr/>
            <p:nvPr/>
          </p:nvSpPr>
          <p:spPr>
            <a:xfrm>
              <a:off x="7148160" y="1969200"/>
              <a:ext cx="1869840" cy="130500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Motivate hi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desir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_s12329"/>
            <p:cNvSpPr/>
            <p:nvPr/>
          </p:nvSpPr>
          <p:spPr>
            <a:xfrm flipV="1">
              <a:off x="5083200" y="1847160"/>
              <a:ext cx="1091880" cy="10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_s12328"/>
            <p:cNvSpPr/>
            <p:nvPr/>
          </p:nvSpPr>
          <p:spPr>
            <a:xfrm>
              <a:off x="5792760" y="666720"/>
              <a:ext cx="187056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Understan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is feelings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_s12327"/>
            <p:cNvSpPr/>
            <p:nvPr/>
          </p:nvSpPr>
          <p:spPr>
            <a:xfrm flipV="1">
              <a:off x="4533480" y="1475640"/>
              <a:ext cx="0" cy="129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_s12326"/>
            <p:cNvSpPr/>
            <p:nvPr/>
          </p:nvSpPr>
          <p:spPr>
            <a:xfrm>
              <a:off x="3598560" y="17136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ear him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_s12325"/>
            <p:cNvSpPr/>
            <p:nvPr/>
          </p:nvSpPr>
          <p:spPr>
            <a:xfrm>
              <a:off x="3598560" y="2776320"/>
              <a:ext cx="1869840" cy="1304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uman touch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228600" y="1648800"/>
            <a:ext cx="8686440" cy="4700520"/>
            <a:chOff x="228600" y="1648800"/>
            <a:chExt cx="8686440" cy="4700520"/>
          </a:xfrm>
        </p:grpSpPr>
        <p:sp>
          <p:nvSpPr>
            <p:cNvPr id="621" name="_s13365"/>
            <p:cNvSpPr/>
            <p:nvPr/>
          </p:nvSpPr>
          <p:spPr>
            <a:xfrm flipV="1">
              <a:off x="3848040" y="1648440"/>
              <a:ext cx="1446840" cy="783720"/>
            </a:xfrm>
            <a:custGeom>
              <a:avLst/>
              <a:gdLst>
                <a:gd name="textAreaLeft" fmla="*/ 519120 w 1446840"/>
                <a:gd name="textAreaRight" fmla="*/ 927720 w 1446840"/>
                <a:gd name="textAreaTop" fmla="*/ 281160 h 783720"/>
                <a:gd name="textAreaBottom" fmla="*/ 50256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ؤ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_s13366"/>
            <p:cNvSpPr/>
            <p:nvPr/>
          </p:nvSpPr>
          <p:spPr>
            <a:xfrm flipV="1">
              <a:off x="3123720" y="2432520"/>
              <a:ext cx="2895480" cy="783360"/>
            </a:xfrm>
            <a:custGeom>
              <a:avLst/>
              <a:gdLst>
                <a:gd name="textAreaLeft" fmla="*/ 636480 w 2895480"/>
                <a:gd name="textAreaRight" fmla="*/ 2259000 w 2895480"/>
                <a:gd name="textAreaTop" fmla="*/ 172080 h 783360"/>
                <a:gd name="textAreaBottom" fmla="*/ 61128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مل الجماع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_s13367"/>
            <p:cNvSpPr/>
            <p:nvPr/>
          </p:nvSpPr>
          <p:spPr>
            <a:xfrm flipV="1">
              <a:off x="2400120" y="3215520"/>
              <a:ext cx="4342680" cy="783720"/>
            </a:xfrm>
            <a:custGeom>
              <a:avLst/>
              <a:gdLst>
                <a:gd name="textAreaLeft" fmla="*/ 753840 w 4342680"/>
                <a:gd name="textAreaRight" fmla="*/ 3588840 w 434268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ـحـدث الايـجــابــــي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_s13368"/>
            <p:cNvSpPr/>
            <p:nvPr/>
          </p:nvSpPr>
          <p:spPr>
            <a:xfrm flipV="1">
              <a:off x="1675800" y="3999240"/>
              <a:ext cx="5791320" cy="783720"/>
            </a:xfrm>
            <a:custGeom>
              <a:avLst/>
              <a:gdLst>
                <a:gd name="textAreaLeft" fmla="*/ 871200 w 5791320"/>
                <a:gd name="textAreaRight" fmla="*/ 4920120 w 579132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سـتـمــاع الجــــــيـــــــ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_s13369"/>
            <p:cNvSpPr/>
            <p:nvPr/>
          </p:nvSpPr>
          <p:spPr>
            <a:xfrm flipV="1">
              <a:off x="952200" y="4782960"/>
              <a:ext cx="7238520" cy="783720"/>
            </a:xfrm>
            <a:custGeom>
              <a:avLst/>
              <a:gdLst>
                <a:gd name="textAreaLeft" fmla="*/ 988560 w 7238520"/>
                <a:gd name="textAreaRight" fmla="*/ 6249960 w 723852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تـــصــــال الغــيـر مـــبـــــاش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_s13371"/>
            <p:cNvSpPr/>
            <p:nvPr/>
          </p:nvSpPr>
          <p:spPr>
            <a:xfrm flipV="1">
              <a:off x="228600" y="5567040"/>
              <a:ext cx="8686440" cy="781560"/>
            </a:xfrm>
            <a:custGeom>
              <a:avLst/>
              <a:gdLst>
                <a:gd name="textAreaLeft" fmla="*/ 1105920 w 8686440"/>
                <a:gd name="textAreaRight" fmla="*/ 7580520 w 8686440"/>
                <a:gd name="textAreaTop" fmla="*/ 99360 h 781560"/>
                <a:gd name="textAreaBottom" fmla="*/ 68220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8f8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ـــــتــــــــحــــــــفـــــــــيــــــــــــــ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ميزات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ثانياً: مهارات ا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تفاوض: هو فن ينطوي على أعمال التخطيط والرقابة والتحليل التي يستخدمها طرفي التفاوض للوصول الى اتفاق يرضي كلا الطرفي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0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متى تتم عملية التفاوض؟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عندما يشترك الطرفان في مصلحة واح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رغب الطرفان في التفاوض بحثاً عن وضع أفض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تيقن الطرفان ان دخول المفاوضات حل أفضل من الجمود أو الصرا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"/>
          <p:cNvGrpSpPr/>
          <p:nvPr/>
        </p:nvGrpSpPr>
        <p:grpSpPr>
          <a:xfrm>
            <a:off x="228600" y="171360"/>
            <a:ext cx="8686440" cy="6512040"/>
            <a:chOff x="228600" y="171360"/>
            <a:chExt cx="8686440" cy="6512040"/>
          </a:xfrm>
        </p:grpSpPr>
        <p:sp>
          <p:nvSpPr>
            <p:cNvPr id="633" name="_s92183"/>
            <p:cNvSpPr/>
            <p:nvPr/>
          </p:nvSpPr>
          <p:spPr>
            <a:xfrm flipH="1" flipV="1">
              <a:off x="303768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_s92182"/>
            <p:cNvSpPr/>
            <p:nvPr/>
          </p:nvSpPr>
          <p:spPr>
            <a:xfrm>
              <a:off x="1180440" y="8859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انو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_s92181"/>
            <p:cNvSpPr/>
            <p:nvPr/>
          </p:nvSpPr>
          <p:spPr>
            <a:xfrm flipH="1">
              <a:off x="240264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_s92180"/>
            <p:cNvSpPr/>
            <p:nvPr/>
          </p:nvSpPr>
          <p:spPr>
            <a:xfrm>
              <a:off x="22860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ثقافة الخص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_s92179"/>
            <p:cNvSpPr/>
            <p:nvPr/>
          </p:nvSpPr>
          <p:spPr>
            <a:xfrm flipH="1">
              <a:off x="303768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_s92178"/>
            <p:cNvSpPr/>
            <p:nvPr/>
          </p:nvSpPr>
          <p:spPr>
            <a:xfrm>
              <a:off x="1184040" y="434088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خلفية المشترك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للمتفاوضي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_s92177"/>
            <p:cNvSpPr/>
            <p:nvPr/>
          </p:nvSpPr>
          <p:spPr>
            <a:xfrm>
              <a:off x="4571640" y="4238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_s92176"/>
            <p:cNvSpPr/>
            <p:nvPr/>
          </p:nvSpPr>
          <p:spPr>
            <a:xfrm>
              <a:off x="3488760" y="50551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داف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_s92175"/>
            <p:cNvSpPr/>
            <p:nvPr/>
          </p:nvSpPr>
          <p:spPr>
            <a:xfrm>
              <a:off x="5337000" y="40006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_s92174"/>
            <p:cNvSpPr/>
            <p:nvPr/>
          </p:nvSpPr>
          <p:spPr>
            <a:xfrm>
              <a:off x="5790600" y="433872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بيئة المحيط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_s92173"/>
            <p:cNvSpPr/>
            <p:nvPr/>
          </p:nvSpPr>
          <p:spPr>
            <a:xfrm>
              <a:off x="5654520" y="3426480"/>
              <a:ext cx="1085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_s92172"/>
            <p:cNvSpPr/>
            <p:nvPr/>
          </p:nvSpPr>
          <p:spPr>
            <a:xfrm>
              <a:off x="6743160" y="2612160"/>
              <a:ext cx="217188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موازين القوى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_s92171"/>
            <p:cNvSpPr/>
            <p:nvPr/>
          </p:nvSpPr>
          <p:spPr>
            <a:xfrm flipV="1">
              <a:off x="5337000" y="2276280"/>
              <a:ext cx="767880" cy="576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_s92170"/>
            <p:cNvSpPr/>
            <p:nvPr/>
          </p:nvSpPr>
          <p:spPr>
            <a:xfrm>
              <a:off x="5787720" y="8859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رتيب المتطلب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_s92169"/>
            <p:cNvSpPr/>
            <p:nvPr/>
          </p:nvSpPr>
          <p:spPr>
            <a:xfrm flipV="1">
              <a:off x="4571640" y="1799640"/>
              <a:ext cx="0" cy="81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_s92168"/>
            <p:cNvSpPr/>
            <p:nvPr/>
          </p:nvSpPr>
          <p:spPr>
            <a:xfrm>
              <a:off x="3485880" y="17136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أجن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_s92167"/>
            <p:cNvSpPr/>
            <p:nvPr/>
          </p:nvSpPr>
          <p:spPr>
            <a:xfrm>
              <a:off x="3485880" y="2614320"/>
              <a:ext cx="2171160" cy="1628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عوامل المؤثر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في التفاو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الأشكال المختلفة للتفاوض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09880" y="1066680"/>
            <a:ext cx="5334120" cy="1219320"/>
          </a:xfrm>
          <a:prstGeom prst="leftRightArrow">
            <a:avLst>
              <a:gd name="adj1" fmla="val 50000"/>
              <a:gd name="adj2" fmla="val 87088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886200" y="2819520"/>
            <a:ext cx="5029200" cy="1143000"/>
          </a:xfrm>
          <a:prstGeom prst="leftArrow">
            <a:avLst>
              <a:gd name="adj1" fmla="val 50000"/>
              <a:gd name="adj2" fmla="val 110000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أنت تكس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48320" y="4648320"/>
            <a:ext cx="4495680" cy="1143000"/>
          </a:xfrm>
          <a:prstGeom prst="rightArrow">
            <a:avLst>
              <a:gd name="adj1" fmla="val 50000"/>
              <a:gd name="adj2" fmla="val 98331"/>
            </a:avLst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كسب......أنت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" y="2057400"/>
            <a:ext cx="3733920" cy="4495680"/>
          </a:xfrm>
          <a:prstGeom prst="irregularSeal1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نا أخسر......أنا تخس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0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لضمان  تفاوض فعال عليك بـــ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تحديد هدف واستراتيجية التفاو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مل بناء على الثق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م بالبحث المتكام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نصت جيداً للطرف الآخ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ثق في كونك طرفاً رابحا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قيم جيداً الاختيارات المتاح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أعرف الأجندة الخفية للخص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09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EG" sz="6000" spc="-1" strike="noStrike">
                <a:solidFill>
                  <a:srgbClr val="ffffcc"/>
                </a:solidFill>
                <a:latin typeface="Arial"/>
              </a:rPr>
              <a:t>شــكـــــراً لـــكـــــــم..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ffffff"/>
                </a:solidFill>
                <a:latin typeface="Arial"/>
              </a:rPr>
              <a:t>وبكم نحن...........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 rtl="1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ffff"/>
                </a:solidFill>
                <a:latin typeface="Arial"/>
              </a:rPr>
              <a:t>أفـضـــل مـــــن الأفــضــــــــل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0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0" fill="hold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EG" sz="6000" spc="-1" strike="noStrike">
                <a:solidFill>
                  <a:srgbClr val="ffffcc"/>
                </a:solidFill>
                <a:latin typeface="Arial"/>
                <a:cs typeface="Andalus"/>
              </a:rPr>
              <a:t>مهارات القيادة وأسس التفاوض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ولاً: مهارات القيادة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هي عملية تحريك مجموعة من الناس بإتجاه محدد ومخطط وذلك بتحفيزهم على العمل بإختياره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a1b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القيادة الناجحة:  هي التي تهدف إلى تحريك الناس في الإتجاه الذي يحقق مصالحهم على المدى البعيد وهي أيضاً بهدف التأثير في الآخري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389880" y="169560"/>
            <a:ext cx="8363160" cy="5978160"/>
            <a:chOff x="389880" y="169560"/>
            <a:chExt cx="8363160" cy="5978160"/>
          </a:xfrm>
        </p:grpSpPr>
        <p:sp>
          <p:nvSpPr>
            <p:cNvPr id="520" name="_s6161"/>
            <p:cNvSpPr/>
            <p:nvPr/>
          </p:nvSpPr>
          <p:spPr>
            <a:xfrm flipH="1" flipV="1">
              <a:off x="2510640" y="2894040"/>
              <a:ext cx="1028520" cy="24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_s6160"/>
            <p:cNvSpPr/>
            <p:nvPr/>
          </p:nvSpPr>
          <p:spPr>
            <a:xfrm>
              <a:off x="38988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ثقة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_s6159"/>
            <p:cNvSpPr/>
            <p:nvPr/>
          </p:nvSpPr>
          <p:spPr>
            <a:xfrm flipH="1">
              <a:off x="3298320" y="4040280"/>
              <a:ext cx="6346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_s6158"/>
            <p:cNvSpPr/>
            <p:nvPr/>
          </p:nvSpPr>
          <p:spPr>
            <a:xfrm>
              <a:off x="157140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حديد الأولوي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_s6157"/>
            <p:cNvSpPr/>
            <p:nvPr/>
          </p:nvSpPr>
          <p:spPr>
            <a:xfrm>
              <a:off x="5209560" y="4040280"/>
              <a:ext cx="638280" cy="64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_s6156"/>
            <p:cNvSpPr/>
            <p:nvPr/>
          </p:nvSpPr>
          <p:spPr>
            <a:xfrm>
              <a:off x="5400360" y="453744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تنمية عوامل القو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_s6155"/>
            <p:cNvSpPr/>
            <p:nvPr/>
          </p:nvSpPr>
          <p:spPr>
            <a:xfrm flipV="1">
              <a:off x="5603400" y="2891160"/>
              <a:ext cx="1031400" cy="249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_s6154"/>
            <p:cNvSpPr/>
            <p:nvPr/>
          </p:nvSpPr>
          <p:spPr>
            <a:xfrm>
              <a:off x="6581160" y="1836720"/>
              <a:ext cx="217188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ركيز على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نجاز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_s6153"/>
            <p:cNvSpPr/>
            <p:nvPr/>
          </p:nvSpPr>
          <p:spPr>
            <a:xfrm flipV="1">
              <a:off x="4571640" y="1780200"/>
              <a:ext cx="0" cy="80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_s6152"/>
            <p:cNvSpPr/>
            <p:nvPr/>
          </p:nvSpPr>
          <p:spPr>
            <a:xfrm>
              <a:off x="3485880" y="1695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حكم في الوق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_s6151"/>
            <p:cNvSpPr/>
            <p:nvPr/>
          </p:nvSpPr>
          <p:spPr>
            <a:xfrm>
              <a:off x="3485880" y="2585160"/>
              <a:ext cx="2171160" cy="161028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عناصر في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 تجاه الأفرا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279000" y="171360"/>
            <a:ext cx="8587800" cy="6364800"/>
            <a:chOff x="279000" y="171360"/>
            <a:chExt cx="8587800" cy="6364800"/>
          </a:xfrm>
        </p:grpSpPr>
        <p:sp>
          <p:nvSpPr>
            <p:cNvPr id="532" name="_s7211"/>
            <p:cNvSpPr/>
            <p:nvPr/>
          </p:nvSpPr>
          <p:spPr>
            <a:xfrm flipH="1" flipV="1">
              <a:off x="3037680" y="2059920"/>
              <a:ext cx="907560" cy="80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_s7210"/>
            <p:cNvSpPr/>
            <p:nvPr/>
          </p:nvSpPr>
          <p:spPr>
            <a:xfrm>
              <a:off x="142812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قدرات الادار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_s7209"/>
            <p:cNvSpPr/>
            <p:nvPr/>
          </p:nvSpPr>
          <p:spPr>
            <a:xfrm flipH="1" flipV="1">
              <a:off x="2224800" y="3119040"/>
              <a:ext cx="139068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_s7208"/>
            <p:cNvSpPr/>
            <p:nvPr/>
          </p:nvSpPr>
          <p:spPr>
            <a:xfrm>
              <a:off x="279000" y="2257560"/>
              <a:ext cx="1958760" cy="146844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مهارات الاتصال و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</a:rPr>
                <a:t>التخاط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_s7207"/>
            <p:cNvSpPr/>
            <p:nvPr/>
          </p:nvSpPr>
          <p:spPr>
            <a:xfrm flipH="1">
              <a:off x="2510640" y="379332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_s7206"/>
            <p:cNvSpPr/>
            <p:nvPr/>
          </p:nvSpPr>
          <p:spPr>
            <a:xfrm>
              <a:off x="682200" y="395748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تضح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_s7205"/>
            <p:cNvSpPr/>
            <p:nvPr/>
          </p:nvSpPr>
          <p:spPr>
            <a:xfrm flipH="1">
              <a:off x="3762000" y="4112280"/>
              <a:ext cx="482040" cy="995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_s7204"/>
            <p:cNvSpPr/>
            <p:nvPr/>
          </p:nvSpPr>
          <p:spPr>
            <a:xfrm>
              <a:off x="2447640" y="50670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حز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_s7203"/>
            <p:cNvSpPr/>
            <p:nvPr/>
          </p:nvSpPr>
          <p:spPr>
            <a:xfrm>
              <a:off x="4907880" y="4109760"/>
              <a:ext cx="482760" cy="995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_s7202"/>
            <p:cNvSpPr/>
            <p:nvPr/>
          </p:nvSpPr>
          <p:spPr>
            <a:xfrm>
              <a:off x="4749480" y="50648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طاقة والنشا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_s7201"/>
            <p:cNvSpPr/>
            <p:nvPr/>
          </p:nvSpPr>
          <p:spPr>
            <a:xfrm>
              <a:off x="5416200" y="3788280"/>
              <a:ext cx="1222200" cy="530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_s7200"/>
            <p:cNvSpPr/>
            <p:nvPr/>
          </p:nvSpPr>
          <p:spPr>
            <a:xfrm>
              <a:off x="6511320" y="395244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ضج والآراء الجي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_s7199"/>
            <p:cNvSpPr/>
            <p:nvPr/>
          </p:nvSpPr>
          <p:spPr>
            <a:xfrm flipV="1">
              <a:off x="5530680" y="3114000"/>
              <a:ext cx="1389960" cy="183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_s7198"/>
            <p:cNvSpPr/>
            <p:nvPr/>
          </p:nvSpPr>
          <p:spPr>
            <a:xfrm>
              <a:off x="6908760" y="2252520"/>
              <a:ext cx="195804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اخلا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_s7197"/>
            <p:cNvSpPr/>
            <p:nvPr/>
          </p:nvSpPr>
          <p:spPr>
            <a:xfrm flipV="1">
              <a:off x="5197320" y="2054520"/>
              <a:ext cx="907560" cy="81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_s7196"/>
            <p:cNvSpPr/>
            <p:nvPr/>
          </p:nvSpPr>
          <p:spPr>
            <a:xfrm>
              <a:off x="5756040" y="75960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خصية القو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_s7195"/>
            <p:cNvSpPr/>
            <p:nvPr/>
          </p:nvSpPr>
          <p:spPr>
            <a:xfrm flipV="1">
              <a:off x="4571640" y="1638000"/>
              <a:ext cx="0" cy="1056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_s7194"/>
            <p:cNvSpPr/>
            <p:nvPr/>
          </p:nvSpPr>
          <p:spPr>
            <a:xfrm>
              <a:off x="3593880" y="17136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شعور بأهم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رسال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_s7193"/>
            <p:cNvSpPr/>
            <p:nvPr/>
          </p:nvSpPr>
          <p:spPr>
            <a:xfrm>
              <a:off x="3593880" y="2695320"/>
              <a:ext cx="1958760" cy="1469160"/>
            </a:xfrm>
            <a:prstGeom prst="ellipse">
              <a:avLst/>
            </a:prstGeom>
            <a:solidFill>
              <a:srgbClr val="8f8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صفات القائ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ffff"/>
                  </a:solidFill>
                  <a:latin typeface="Arial"/>
                </a:rPr>
                <a:t>الناج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250920" y="763560"/>
            <a:ext cx="8353440" cy="280656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5940360" y="620640"/>
            <a:ext cx="0" cy="208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987640" y="1627200"/>
            <a:ext cx="0" cy="208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940360" y="3067200"/>
            <a:ext cx="0" cy="64908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87640" y="619200"/>
            <a:ext cx="0" cy="647640"/>
          </a:xfrm>
          <a:prstGeom prst="line">
            <a:avLst/>
          </a:prstGeom>
          <a:ln w="7632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724360" y="260280"/>
            <a:ext cx="30243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179280" y="260280"/>
            <a:ext cx="29527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601200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8508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098880" y="549360"/>
            <a:ext cx="79200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71960" y="549360"/>
            <a:ext cx="79236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198000" y="549360"/>
            <a:ext cx="792360" cy="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071800" y="549360"/>
            <a:ext cx="792000" cy="12600"/>
          </a:xfrm>
          <a:prstGeom prst="line">
            <a:avLst/>
          </a:prstGeom>
          <a:ln w="76320">
            <a:solidFill>
              <a:srgbClr val="d4d82a">
                <a:alpha val="7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03640" y="71280"/>
            <a:ext cx="2520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9999"/>
                </a:solidFill>
                <a:latin typeface="Verdana"/>
                <a:cs typeface="AdvertisingBold"/>
              </a:rPr>
              <a:t>أنماط القيادة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  <a:ea typeface="Advertising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8800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تسل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784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ديمقراطى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47720" y="404640"/>
            <a:ext cx="1511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111111"/>
                </a:solidFill>
                <a:latin typeface="Verdana"/>
                <a:cs typeface="AdvertisingBold"/>
              </a:rPr>
              <a:t>الحــــــ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824400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7164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9403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0002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7644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83528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4460760" y="3716280"/>
            <a:ext cx="0" cy="43344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74072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ويعلن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88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قن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ب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6400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تخ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م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9564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قترح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كون مستعد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تغير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56000" y="4292640"/>
            <a:ext cx="93636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لق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قتراحات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تخذ 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03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 يعر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شكل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ناقشه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ويفو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في اتخ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9280" y="4292640"/>
            <a:ext cx="936720" cy="2160720"/>
          </a:xfrm>
          <a:prstGeom prst="rect">
            <a:avLst/>
          </a:prstGeom>
          <a:solidFill>
            <a:srgbClr val="8f8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ائ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يفوض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سلطة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تخاذ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القرار</a:t>
            </a:r>
            <a:r>
              <a:rPr b="1" lang="en-US" sz="2000" spc="-1" strike="noStrike">
                <a:solidFill>
                  <a:srgbClr val="ffff66"/>
                </a:solidFill>
                <a:latin typeface="Verdana"/>
                <a:ea typeface="AL-Hor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66"/>
                </a:solidFill>
                <a:latin typeface="Verdana"/>
                <a:cs typeface="AL-Hor"/>
              </a:rPr>
              <a:t>للمرؤوسي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5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5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5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5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5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5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5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5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أنماط القائ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ديموقراط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819520" y="243828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ستمع لآراء المرؤوسي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89548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تسود فيه روح الفريق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41911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و احد م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56544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غير موجه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819520" y="236232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يست هناك رقابة لصيق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19520" y="3200400"/>
            <a:ext cx="60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ائد بعيد عن المجموع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11240" y="2209680"/>
            <a:ext cx="4537080" cy="40276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895480" y="167652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يترك الحبل على الغارب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26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76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26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a16"/>
            </a:gs>
            <a:gs pos="100000">
              <a:srgbClr val="4e5d3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ar-EG" sz="4400" spc="-1" strike="noStrike">
                <a:solidFill>
                  <a:srgbClr val="ffffcc"/>
                </a:solidFill>
                <a:latin typeface="Arial"/>
              </a:rPr>
              <a:t>- الديكتاتوري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9863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3132000" y="15238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لا يسمح بالمشارك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132000" y="24382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قرارات فردية و فوقي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132000" y="3352680"/>
            <a:ext cx="601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L-Mateen"/>
              </a:rPr>
              <a:t> </a:t>
            </a: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رقابة لصيقة جداً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ADIATOR_2008</cp:lastModifiedBy>
  <dcterms:modified xsi:type="dcterms:W3CDTF">2009-04-19T12:31:1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