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B118-D8EF-4AE3-B0F4-E5B0AFFC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CEDA-8AE4-4C20-BD96-0382ACB0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3FB2-5DA4-4F95-8A50-758C9386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9524-1DC3-4031-9834-7746B793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171B-3FA0-430F-8EC2-76ADD361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8739-68D5-4066-A0FA-63760DC3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E607-FE7B-4B78-B727-8C197CBE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3ECC-B0A5-4317-9CA7-4210DFC4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BA7E-855F-4CDC-9D76-B1269AE9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DB0F-3639-4FF4-AFA8-D71253E4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8544-8031-46A4-83C6-2F3AED3B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DF83-F550-4308-B38C-1D94DD92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01CB-DCBE-4E0D-B007-DA82FEDF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E411-D3AE-4CD5-8CEA-DF9589E3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7AC4-D999-437F-AB8F-E22C12C7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562D-C7E7-4D06-B3CA-1716B1C4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5F07-C7A2-450A-8B92-23B19F08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98A1-9409-4582-91DD-B6267A0E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ED02-8F34-4767-ADF8-AD34B164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5EB1-3077-4892-983D-E3F25157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CC42-9656-45F6-98B9-358C02B8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1C28-EB19-4C56-8F96-5EED2BA1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4690-87AD-433A-83A6-85B5E6AA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E10A-1FF7-4EA0-86AD-EBF2FD55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203D-A40E-44B8-AF4A-50466749B6BE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266A-42DC-4B64-BC08-BF3FC81DD0CF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>
                <a:solidFill>
                  <a:srgbClr val="ffffcc"/>
                </a:solidFill>
                <a:latin typeface="Arial"/>
              </a:rPr>
              <a:t>هل تفضل أن تكون قائداً مميزاً؟؟؟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إذاً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أحرص على الاستفادة معنا .....اليوم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52200" y="171360"/>
            <a:ext cx="8965800" cy="6510240"/>
            <a:chOff x="52200" y="171360"/>
            <a:chExt cx="8965800" cy="6510240"/>
          </a:xfrm>
        </p:grpSpPr>
        <p:sp>
          <p:nvSpPr>
            <p:cNvPr id="599" name="_s12345"/>
            <p:cNvSpPr/>
            <p:nvPr/>
          </p:nvSpPr>
          <p:spPr>
            <a:xfrm flipH="1" flipV="1">
              <a:off x="2888640" y="1850040"/>
              <a:ext cx="1101960" cy="104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12344"/>
            <p:cNvSpPr/>
            <p:nvPr/>
          </p:nvSpPr>
          <p:spPr>
            <a:xfrm>
              <a:off x="1407600" y="66888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ono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12343"/>
            <p:cNvSpPr/>
            <p:nvPr/>
          </p:nvSpPr>
          <p:spPr>
            <a:xfrm flipH="1" flipV="1">
              <a:off x="1874520" y="28263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_s12342"/>
            <p:cNvSpPr/>
            <p:nvPr/>
          </p:nvSpPr>
          <p:spPr>
            <a:xfrm>
              <a:off x="52200" y="19692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Communicate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With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_s12341"/>
            <p:cNvSpPr/>
            <p:nvPr/>
          </p:nvSpPr>
          <p:spPr>
            <a:xfrm flipH="1">
              <a:off x="1877760" y="3626280"/>
              <a:ext cx="1771560" cy="4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_s12340"/>
            <p:cNvSpPr/>
            <p:nvPr/>
          </p:nvSpPr>
          <p:spPr>
            <a:xfrm>
              <a:off x="52200" y="357876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iquenes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12339"/>
            <p:cNvSpPr/>
            <p:nvPr/>
          </p:nvSpPr>
          <p:spPr>
            <a:xfrm flipH="1">
              <a:off x="2894760" y="395244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_s12338"/>
            <p:cNvSpPr/>
            <p:nvPr/>
          </p:nvSpPr>
          <p:spPr>
            <a:xfrm>
              <a:off x="1407600" y="488124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Open his ey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12337"/>
            <p:cNvSpPr/>
            <p:nvPr/>
          </p:nvSpPr>
          <p:spPr>
            <a:xfrm>
              <a:off x="4533480" y="4076640"/>
              <a:ext cx="6840" cy="1299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_s12336"/>
            <p:cNvSpPr/>
            <p:nvPr/>
          </p:nvSpPr>
          <p:spPr>
            <a:xfrm>
              <a:off x="3601800" y="53766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Trust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biliti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12335"/>
            <p:cNvSpPr/>
            <p:nvPr/>
          </p:nvSpPr>
          <p:spPr>
            <a:xfrm>
              <a:off x="5079960" y="3952440"/>
              <a:ext cx="1101960" cy="105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_s12334"/>
            <p:cNvSpPr/>
            <p:nvPr/>
          </p:nvSpPr>
          <p:spPr>
            <a:xfrm>
              <a:off x="5792760" y="487908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Never und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_s12333"/>
            <p:cNvSpPr/>
            <p:nvPr/>
          </p:nvSpPr>
          <p:spPr>
            <a:xfrm>
              <a:off x="5421240" y="36291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_s12332"/>
            <p:cNvSpPr/>
            <p:nvPr/>
          </p:nvSpPr>
          <p:spPr>
            <a:xfrm>
              <a:off x="7148160" y="357876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ppreci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effort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12331"/>
            <p:cNvSpPr/>
            <p:nvPr/>
          </p:nvSpPr>
          <p:spPr>
            <a:xfrm flipV="1">
              <a:off x="5421240" y="2821320"/>
              <a:ext cx="1770480" cy="40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12330"/>
            <p:cNvSpPr/>
            <p:nvPr/>
          </p:nvSpPr>
          <p:spPr>
            <a:xfrm>
              <a:off x="7148160" y="196920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Motiv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desi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_s12329"/>
            <p:cNvSpPr/>
            <p:nvPr/>
          </p:nvSpPr>
          <p:spPr>
            <a:xfrm flipV="1">
              <a:off x="5083200" y="184716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12328"/>
            <p:cNvSpPr/>
            <p:nvPr/>
          </p:nvSpPr>
          <p:spPr>
            <a:xfrm>
              <a:off x="5792760" y="66672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s feeling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_s12327"/>
            <p:cNvSpPr/>
            <p:nvPr/>
          </p:nvSpPr>
          <p:spPr>
            <a:xfrm flipV="1">
              <a:off x="4533480" y="1475640"/>
              <a:ext cx="0" cy="129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12326"/>
            <p:cNvSpPr/>
            <p:nvPr/>
          </p:nvSpPr>
          <p:spPr>
            <a:xfrm>
              <a:off x="3598560" y="17136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ea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_s12325"/>
            <p:cNvSpPr/>
            <p:nvPr/>
          </p:nvSpPr>
          <p:spPr>
            <a:xfrm>
              <a:off x="3598560" y="277632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uman touch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228600" y="1648800"/>
            <a:ext cx="8686440" cy="4700520"/>
            <a:chOff x="228600" y="1648800"/>
            <a:chExt cx="8686440" cy="4700520"/>
          </a:xfrm>
        </p:grpSpPr>
        <p:sp>
          <p:nvSpPr>
            <p:cNvPr id="621" name="_s13365"/>
            <p:cNvSpPr/>
            <p:nvPr/>
          </p:nvSpPr>
          <p:spPr>
            <a:xfrm flipV="1">
              <a:off x="3848040" y="1648440"/>
              <a:ext cx="1446840" cy="783720"/>
            </a:xfrm>
            <a:custGeom>
              <a:avLst/>
              <a:gdLst>
                <a:gd name="textAreaLeft" fmla="*/ 519120 w 1446840"/>
                <a:gd name="textAreaRight" fmla="*/ 927720 w 1446840"/>
                <a:gd name="textAreaTop" fmla="*/ 281160 h 783720"/>
                <a:gd name="textAreaBottom" fmla="*/ 50256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ؤ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_s13366"/>
            <p:cNvSpPr/>
            <p:nvPr/>
          </p:nvSpPr>
          <p:spPr>
            <a:xfrm flipV="1">
              <a:off x="3123720" y="2432520"/>
              <a:ext cx="2895480" cy="783360"/>
            </a:xfrm>
            <a:custGeom>
              <a:avLst/>
              <a:gdLst>
                <a:gd name="textAreaLeft" fmla="*/ 636480 w 2895480"/>
                <a:gd name="textAreaRight" fmla="*/ 2259000 w 2895480"/>
                <a:gd name="textAreaTop" fmla="*/ 172080 h 783360"/>
                <a:gd name="textAreaBottom" fmla="*/ 61128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مل الجماع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_s13367"/>
            <p:cNvSpPr/>
            <p:nvPr/>
          </p:nvSpPr>
          <p:spPr>
            <a:xfrm flipV="1">
              <a:off x="2400120" y="3215520"/>
              <a:ext cx="4342680" cy="783720"/>
            </a:xfrm>
            <a:custGeom>
              <a:avLst/>
              <a:gdLst>
                <a:gd name="textAreaLeft" fmla="*/ 753840 w 4342680"/>
                <a:gd name="textAreaRight" fmla="*/ 3588840 w 434268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ـحـدث الايـجــابــــ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13368"/>
            <p:cNvSpPr/>
            <p:nvPr/>
          </p:nvSpPr>
          <p:spPr>
            <a:xfrm flipV="1">
              <a:off x="1675800" y="3999240"/>
              <a:ext cx="5791320" cy="783720"/>
            </a:xfrm>
            <a:custGeom>
              <a:avLst/>
              <a:gdLst>
                <a:gd name="textAreaLeft" fmla="*/ 871200 w 5791320"/>
                <a:gd name="textAreaRight" fmla="*/ 4920120 w 579132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سـتـمــاع الجــــــيـــــــ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_s13369"/>
            <p:cNvSpPr/>
            <p:nvPr/>
          </p:nvSpPr>
          <p:spPr>
            <a:xfrm flipV="1">
              <a:off x="952200" y="4782960"/>
              <a:ext cx="7238520" cy="783720"/>
            </a:xfrm>
            <a:custGeom>
              <a:avLst/>
              <a:gdLst>
                <a:gd name="textAreaLeft" fmla="*/ 988560 w 7238520"/>
                <a:gd name="textAreaRight" fmla="*/ 6249960 w 723852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تـــصــــال الغــيـر مـــبـــــاش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13371"/>
            <p:cNvSpPr/>
            <p:nvPr/>
          </p:nvSpPr>
          <p:spPr>
            <a:xfrm flipV="1">
              <a:off x="228600" y="5567040"/>
              <a:ext cx="8686440" cy="781560"/>
            </a:xfrm>
            <a:custGeom>
              <a:avLst/>
              <a:gdLst>
                <a:gd name="textAreaLeft" fmla="*/ 1105920 w 8686440"/>
                <a:gd name="textAreaRight" fmla="*/ 7580520 w 8686440"/>
                <a:gd name="textAreaTop" fmla="*/ 99360 h 781560"/>
                <a:gd name="textAreaBottom" fmla="*/ 68220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ـــــتــــــــحــــــــفـــــــــيــــــــــــــ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ميزات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ثانياً: مهارات ا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تفاوض: هو فن ينطوي على أعمال التخطيط والرقابة والتحليل التي يستخدمها طرفي التفاوض للوصول الى اتفاق يرضي كلا الطرفي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0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تى تتم عملية التفاوض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عندما يشترك الطرفان في مصلحة واح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رغب الطرفان في التفاوض بحثاً عن وضع أفض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تيقن الطرفان ان دخول المفاوضات حل أفضل من الجمود أو الصرا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"/>
          <p:cNvGrpSpPr/>
          <p:nvPr/>
        </p:nvGrpSpPr>
        <p:grpSpPr>
          <a:xfrm>
            <a:off x="228600" y="171360"/>
            <a:ext cx="8686440" cy="6512040"/>
            <a:chOff x="228600" y="171360"/>
            <a:chExt cx="8686440" cy="6512040"/>
          </a:xfrm>
        </p:grpSpPr>
        <p:sp>
          <p:nvSpPr>
            <p:cNvPr id="633" name="_s92183"/>
            <p:cNvSpPr/>
            <p:nvPr/>
          </p:nvSpPr>
          <p:spPr>
            <a:xfrm flipH="1" flipV="1">
              <a:off x="303768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92182"/>
            <p:cNvSpPr/>
            <p:nvPr/>
          </p:nvSpPr>
          <p:spPr>
            <a:xfrm>
              <a:off x="1180440" y="8859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انو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92181"/>
            <p:cNvSpPr/>
            <p:nvPr/>
          </p:nvSpPr>
          <p:spPr>
            <a:xfrm flipH="1">
              <a:off x="240264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_s92180"/>
            <p:cNvSpPr/>
            <p:nvPr/>
          </p:nvSpPr>
          <p:spPr>
            <a:xfrm>
              <a:off x="22860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ثقافة الخص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92179"/>
            <p:cNvSpPr/>
            <p:nvPr/>
          </p:nvSpPr>
          <p:spPr>
            <a:xfrm flipH="1">
              <a:off x="303768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_s92178"/>
            <p:cNvSpPr/>
            <p:nvPr/>
          </p:nvSpPr>
          <p:spPr>
            <a:xfrm>
              <a:off x="1184040" y="434088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خلفية المشترك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للمتفاوضي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92177"/>
            <p:cNvSpPr/>
            <p:nvPr/>
          </p:nvSpPr>
          <p:spPr>
            <a:xfrm>
              <a:off x="4571640" y="4238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_s92176"/>
            <p:cNvSpPr/>
            <p:nvPr/>
          </p:nvSpPr>
          <p:spPr>
            <a:xfrm>
              <a:off x="3488760" y="50551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داف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92175"/>
            <p:cNvSpPr/>
            <p:nvPr/>
          </p:nvSpPr>
          <p:spPr>
            <a:xfrm>
              <a:off x="533700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_s92174"/>
            <p:cNvSpPr/>
            <p:nvPr/>
          </p:nvSpPr>
          <p:spPr>
            <a:xfrm>
              <a:off x="5790600" y="43387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بيئة المحيط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92173"/>
            <p:cNvSpPr/>
            <p:nvPr/>
          </p:nvSpPr>
          <p:spPr>
            <a:xfrm>
              <a:off x="565452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_s92172"/>
            <p:cNvSpPr/>
            <p:nvPr/>
          </p:nvSpPr>
          <p:spPr>
            <a:xfrm>
              <a:off x="6743160" y="26121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موازين القوى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_s92171"/>
            <p:cNvSpPr/>
            <p:nvPr/>
          </p:nvSpPr>
          <p:spPr>
            <a:xfrm flipV="1">
              <a:off x="533700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92170"/>
            <p:cNvSpPr/>
            <p:nvPr/>
          </p:nvSpPr>
          <p:spPr>
            <a:xfrm>
              <a:off x="5787720" y="8859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رتيب المتطلب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_s92169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92168"/>
            <p:cNvSpPr/>
            <p:nvPr/>
          </p:nvSpPr>
          <p:spPr>
            <a:xfrm>
              <a:off x="3485880" y="1713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أجن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_s92167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وامل المؤثر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في التفاو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الأشكال المختلفة ل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09880" y="1066680"/>
            <a:ext cx="5334120" cy="1219320"/>
          </a:xfrm>
          <a:prstGeom prst="leftRightArrow">
            <a:avLst>
              <a:gd name="adj1" fmla="val 50000"/>
              <a:gd name="adj2" fmla="val 87088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86200" y="2819520"/>
            <a:ext cx="5029200" cy="1143000"/>
          </a:xfrm>
          <a:prstGeom prst="leftArrow">
            <a:avLst>
              <a:gd name="adj1" fmla="val 50000"/>
              <a:gd name="adj2" fmla="val 110000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48320" y="4648320"/>
            <a:ext cx="4495680" cy="1143000"/>
          </a:xfrm>
          <a:prstGeom prst="rightArrow">
            <a:avLst>
              <a:gd name="adj1" fmla="val 50000"/>
              <a:gd name="adj2" fmla="val 98331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" y="2057400"/>
            <a:ext cx="3733920" cy="4495680"/>
          </a:xfrm>
          <a:prstGeom prst="irregularSeal1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.أنا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لضمان  تفاوض فعال عليك بـــ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تحديد هدف واستراتيجية التفاو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مل بناء على الثق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م بالبحث المتكام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نصت جيداً للطرف الآخ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ثق في كونك طرفاً رابحا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يم جيداً الاختيارات المتاح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رف الأجندة الخفية للخص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9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000" spc="-1" strike="noStrike">
                <a:solidFill>
                  <a:srgbClr val="ffffcc"/>
                </a:solidFill>
                <a:latin typeface="Arial"/>
              </a:rPr>
              <a:t>شــكـــــراً لـــكـــــــم.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وبكم نحن........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ffff"/>
                </a:solidFill>
                <a:latin typeface="Arial"/>
              </a:rPr>
              <a:t>أفـضـــل مـــــن الأفــضــــــــل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EG" sz="6000" spc="-1" strike="noStrike">
                <a:solidFill>
                  <a:srgbClr val="ffffcc"/>
                </a:solidFill>
                <a:latin typeface="Arial"/>
                <a:cs typeface="Andalus"/>
              </a:rPr>
              <a:t>مهارات القيادة وأسس التفاوض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ولاً: مهارات القيادة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هي عملية تحريك مجموعة من الناس بإتجاه محدد ومخطط وذلك بتحفيزهم على العمل بإختياره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القيادة الناجحة:  هي التي تهدف إلى تحريك الناس في الإتجاه الذي يحقق مصالحهم على المدى البعيد وهي أيضاً بهدف التأثير في الآخري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389880" y="169560"/>
            <a:ext cx="8363160" cy="5978160"/>
            <a:chOff x="389880" y="169560"/>
            <a:chExt cx="8363160" cy="5978160"/>
          </a:xfrm>
        </p:grpSpPr>
        <p:sp>
          <p:nvSpPr>
            <p:cNvPr id="520" name="_s6161"/>
            <p:cNvSpPr/>
            <p:nvPr/>
          </p:nvSpPr>
          <p:spPr>
            <a:xfrm flipH="1" flipV="1">
              <a:off x="2510640" y="2894040"/>
              <a:ext cx="1028520" cy="24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6160"/>
            <p:cNvSpPr/>
            <p:nvPr/>
          </p:nvSpPr>
          <p:spPr>
            <a:xfrm>
              <a:off x="38988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ثق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_s6159"/>
            <p:cNvSpPr/>
            <p:nvPr/>
          </p:nvSpPr>
          <p:spPr>
            <a:xfrm flipH="1">
              <a:off x="3298320" y="4040280"/>
              <a:ext cx="6346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6158"/>
            <p:cNvSpPr/>
            <p:nvPr/>
          </p:nvSpPr>
          <p:spPr>
            <a:xfrm>
              <a:off x="157140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حديد الأولوي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_s6157"/>
            <p:cNvSpPr/>
            <p:nvPr/>
          </p:nvSpPr>
          <p:spPr>
            <a:xfrm>
              <a:off x="5209560" y="4040280"/>
              <a:ext cx="6382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6156"/>
            <p:cNvSpPr/>
            <p:nvPr/>
          </p:nvSpPr>
          <p:spPr>
            <a:xfrm>
              <a:off x="540036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نمية عوامل القو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_s6155"/>
            <p:cNvSpPr/>
            <p:nvPr/>
          </p:nvSpPr>
          <p:spPr>
            <a:xfrm flipV="1">
              <a:off x="5603400" y="2891160"/>
              <a:ext cx="1031400" cy="24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6154"/>
            <p:cNvSpPr/>
            <p:nvPr/>
          </p:nvSpPr>
          <p:spPr>
            <a:xfrm>
              <a:off x="658116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ركيز على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نجاز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6153"/>
            <p:cNvSpPr/>
            <p:nvPr/>
          </p:nvSpPr>
          <p:spPr>
            <a:xfrm flipV="1">
              <a:off x="4571640" y="1780200"/>
              <a:ext cx="0" cy="80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6152"/>
            <p:cNvSpPr/>
            <p:nvPr/>
          </p:nvSpPr>
          <p:spPr>
            <a:xfrm>
              <a:off x="3485880" y="1695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حكم في الوق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6151"/>
            <p:cNvSpPr/>
            <p:nvPr/>
          </p:nvSpPr>
          <p:spPr>
            <a:xfrm>
              <a:off x="3485880" y="25851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عناصر في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 تجاه الأفرا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279000" y="171360"/>
            <a:ext cx="8587800" cy="6364800"/>
            <a:chOff x="279000" y="171360"/>
            <a:chExt cx="8587800" cy="6364800"/>
          </a:xfrm>
        </p:grpSpPr>
        <p:sp>
          <p:nvSpPr>
            <p:cNvPr id="532" name="_s7211"/>
            <p:cNvSpPr/>
            <p:nvPr/>
          </p:nvSpPr>
          <p:spPr>
            <a:xfrm flipH="1" flipV="1">
              <a:off x="3037680" y="2059920"/>
              <a:ext cx="907560" cy="80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7210"/>
            <p:cNvSpPr/>
            <p:nvPr/>
          </p:nvSpPr>
          <p:spPr>
            <a:xfrm>
              <a:off x="142812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درات الادار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7209"/>
            <p:cNvSpPr/>
            <p:nvPr/>
          </p:nvSpPr>
          <p:spPr>
            <a:xfrm flipH="1" flipV="1">
              <a:off x="2224800" y="3119040"/>
              <a:ext cx="139068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_s7208"/>
            <p:cNvSpPr/>
            <p:nvPr/>
          </p:nvSpPr>
          <p:spPr>
            <a:xfrm>
              <a:off x="279000" y="2257560"/>
              <a:ext cx="1958760" cy="146844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مهارات الاتصال 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التخاط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7207"/>
            <p:cNvSpPr/>
            <p:nvPr/>
          </p:nvSpPr>
          <p:spPr>
            <a:xfrm flipH="1">
              <a:off x="2510640" y="379332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7206"/>
            <p:cNvSpPr/>
            <p:nvPr/>
          </p:nvSpPr>
          <p:spPr>
            <a:xfrm>
              <a:off x="682200" y="395748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ضح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7205"/>
            <p:cNvSpPr/>
            <p:nvPr/>
          </p:nvSpPr>
          <p:spPr>
            <a:xfrm flipH="1">
              <a:off x="3762000" y="4112280"/>
              <a:ext cx="482040" cy="99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_s7204"/>
            <p:cNvSpPr/>
            <p:nvPr/>
          </p:nvSpPr>
          <p:spPr>
            <a:xfrm>
              <a:off x="2447640" y="50670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حز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7203"/>
            <p:cNvSpPr/>
            <p:nvPr/>
          </p:nvSpPr>
          <p:spPr>
            <a:xfrm>
              <a:off x="4907880" y="4109760"/>
              <a:ext cx="482760" cy="99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7202"/>
            <p:cNvSpPr/>
            <p:nvPr/>
          </p:nvSpPr>
          <p:spPr>
            <a:xfrm>
              <a:off x="4749480" y="50648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طاقة والنشا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_s7201"/>
            <p:cNvSpPr/>
            <p:nvPr/>
          </p:nvSpPr>
          <p:spPr>
            <a:xfrm>
              <a:off x="5416200" y="378828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7200"/>
            <p:cNvSpPr/>
            <p:nvPr/>
          </p:nvSpPr>
          <p:spPr>
            <a:xfrm>
              <a:off x="6511320" y="39524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ضج والآراء الجي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_s7199"/>
            <p:cNvSpPr/>
            <p:nvPr/>
          </p:nvSpPr>
          <p:spPr>
            <a:xfrm flipV="1">
              <a:off x="5530680" y="3114000"/>
              <a:ext cx="138996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7198"/>
            <p:cNvSpPr/>
            <p:nvPr/>
          </p:nvSpPr>
          <p:spPr>
            <a:xfrm>
              <a:off x="6908760" y="2252520"/>
              <a:ext cx="195804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خلا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_s7197"/>
            <p:cNvSpPr/>
            <p:nvPr/>
          </p:nvSpPr>
          <p:spPr>
            <a:xfrm flipV="1">
              <a:off x="5197320" y="2054520"/>
              <a:ext cx="907560" cy="81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_s7196"/>
            <p:cNvSpPr/>
            <p:nvPr/>
          </p:nvSpPr>
          <p:spPr>
            <a:xfrm>
              <a:off x="575604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خصية القو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_s7195"/>
            <p:cNvSpPr/>
            <p:nvPr/>
          </p:nvSpPr>
          <p:spPr>
            <a:xfrm flipV="1">
              <a:off x="4571640" y="1638000"/>
              <a:ext cx="0" cy="105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_s7194"/>
            <p:cNvSpPr/>
            <p:nvPr/>
          </p:nvSpPr>
          <p:spPr>
            <a:xfrm>
              <a:off x="3593880" y="17136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عور بأهم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سال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7193"/>
            <p:cNvSpPr/>
            <p:nvPr/>
          </p:nvSpPr>
          <p:spPr>
            <a:xfrm>
              <a:off x="3593880" y="269532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صفات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اج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50920" y="763560"/>
            <a:ext cx="8353440" cy="28065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5940360" y="620640"/>
            <a:ext cx="0" cy="208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1627200"/>
            <a:ext cx="0" cy="208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940360" y="3067200"/>
            <a:ext cx="0" cy="64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87640" y="619200"/>
            <a:ext cx="0" cy="64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24360" y="260280"/>
            <a:ext cx="3024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179280" y="260280"/>
            <a:ext cx="2952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01200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8508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9888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7196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98000" y="549360"/>
            <a:ext cx="79236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71800" y="549360"/>
            <a:ext cx="79200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71280"/>
            <a:ext cx="252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9999"/>
                </a:solidFill>
                <a:latin typeface="Verdana"/>
                <a:cs typeface="AdvertisingBold"/>
              </a:rPr>
              <a:t>أنماط القيادة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dvertising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8800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تسل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784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ديمقرا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4772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حــــــ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24400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7164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940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0002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764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83528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4607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74072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ويعلن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88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قن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ب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64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م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9564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قترح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كون مستعد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تغير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56000" y="4292640"/>
            <a:ext cx="93636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لق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قتراحات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خذ 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03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فو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في اتخ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9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يفو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سلط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تخا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5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5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5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نماط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ديموقراط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243828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ستمع لآراء المرؤوسي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9548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تسود فيه روح الفريق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41911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و احد م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56544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7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غير موجه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23623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يست هناك رقابة لصيق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320040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بعيد ع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11240" y="2209680"/>
            <a:ext cx="4537080" cy="40276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895480" y="167652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ترك الحبل على الغارب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26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76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26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ديكتاتوري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9863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3132000" y="15238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ا يسمح بالمشارك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132000" y="24382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رارات فردية و فوقي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13200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رقابة لصيقة جداً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9-04-19T12:31:1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